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DBA-441A-41F6-A340-1CC7EAD7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123-DBEE-4498-A218-35FAE74C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A02-3746-404A-83B3-F9174F39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53E-DC94-420B-8418-9E458024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7AF-34A2-47BA-A1E5-D32139F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AB4-EC17-4304-B691-E3D25370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95B-2267-4910-839E-65C1135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0FD1-E12D-460C-A05F-EBB95F1D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E7A9-8E0E-483F-B739-97CB3B0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0B3B-4AC3-4EDF-A16C-B589C93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9DD-0577-444E-B57D-F3E69E0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5E7-DC8A-41D0-81C5-A36D45F4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637-FF63-4803-A65F-3D7CBB8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0E2E-6002-4139-8B0C-323CDD4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A4B4-299E-4879-8EB7-BD1990D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5AD-6E76-4BD8-AFC9-7FCCF5E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6FB-A86D-4ED7-B77F-99FAF03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17E-BD1C-4BC4-8F2B-C95BC218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4E1-F4CD-4821-BF62-E6ECE07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1DF-E807-44E2-9B75-3F25267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E32-ACF9-4669-BADB-1B85E70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0D5-6904-4BED-86E2-92169B8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B63-0304-4893-ADA1-0406293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311-CD7A-4895-84B8-D9B95DC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B4E6-C2FF-4066-AB69-9BC3CC7A6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345A-377E-4044-BB5A-7E3654576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391520" y="41241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hich stadium did Bobby Thomson’s famous “the shot heard round the world” homerun of the 1951 take plac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86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03840" y="1600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Polo Grounds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05640" y="26668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Yankee Stadium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3963960" y="15969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nway Park Bo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3962160" y="266688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Ebbets Field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276720" y="3657240"/>
            <a:ext cx="289584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lo Grounds, N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nway Park Bost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nkee Stadium, N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bbets Field, 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3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401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53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4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7391520" y="38098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band was led by the legendary Doc Neeson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0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306000" y="1596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Cheap 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305640" y="26668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Monk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3963600" y="1596960"/>
            <a:ext cx="17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963600" y="26668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Bea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TPChart"/>
          <p:cNvGraphicFramePr/>
          <p:nvPr/>
        </p:nvGraphicFramePr>
        <p:xfrm>
          <a:off x="1523880" y="3657600"/>
          <a:ext cx="45720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2666880" y="3352320"/>
            <a:ext cx="236196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ap Trick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nge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onke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301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7391520" y="349560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ustralian animal has handprints virtuall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stinguishable from humans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8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30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05640" y="15969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305640" y="26668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Kangar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962880" y="15969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ng-tailed pos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963600" y="2666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2819520" y="3733920"/>
            <a:ext cx="266724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ypu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g-tailed poss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ngaro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o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20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1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601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1601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601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1601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70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1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473120"/>
                <a:gridCol w="5562720"/>
                <a:gridCol w="685800"/>
                <a:gridCol w="116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391520" y="318132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as the butler’s name on Magnum PI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5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305640" y="15969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Be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306000" y="26668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3963240" y="159696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3964680" y="26668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Je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2133720" y="4038120"/>
            <a:ext cx="175284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s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gi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thu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e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83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4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701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701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701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701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701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701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701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701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701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701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33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4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7391520" y="28479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currency of Ireland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76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307080" y="15969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Drach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305640" y="26668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3962880" y="15969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3963600" y="26668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D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2133720" y="3733920"/>
            <a:ext cx="190512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chm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u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ur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n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46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7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101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101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101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101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101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101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7101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7101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101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7101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96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7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7391520" y="254304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vie The Patriot dealt with which war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9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04920" y="1596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Gul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306000" y="26668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3964680" y="15969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e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3963240" y="266688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Revolutionary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TPChart"/>
          <p:cNvGraphicFramePr/>
          <p:nvPr/>
        </p:nvGraphicFramePr>
        <p:xfrm>
          <a:off x="1523880" y="358128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-2743200" y="3505320"/>
            <a:ext cx="24382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lf Wa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er Wa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etna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09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8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8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80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59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0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7391520" y="22287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did Muhammad Ali fight in the famo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Thrilla in Manilla”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20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3838680" y="152388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5640" y="15969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George For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306360" y="26668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Ernie Sha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3964320" y="1596960"/>
            <a:ext cx="17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e Fra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3962520" y="2666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Leon Sp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-2971800" y="3352320"/>
            <a:ext cx="266688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rge Forem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e Frazi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nie Shave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on Spin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2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701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9701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9701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701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701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701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9701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9701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9701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9701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22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3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7391520" y="19144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nt Coffee was invented by…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4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0"/>
          <p:cNvSpPr/>
          <p:nvPr/>
        </p:nvSpPr>
        <p:spPr>
          <a:xfrm>
            <a:off x="3835440" y="250020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306360" y="15969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K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306360" y="26668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m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3963960" y="159696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well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63960" y="26668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Ne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-2514600" y="3352320"/>
            <a:ext cx="228600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raf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well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w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s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35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6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101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101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101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101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7101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101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101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101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7101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101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85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473120"/>
                <a:gridCol w="5715000"/>
                <a:gridCol w="304920"/>
                <a:gridCol w="139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58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0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391520" y="63435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songs from the Beatles’ Sgt. Peppers Lonely Hearts Club Band were released as singles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6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27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59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4"/>
          <p:cNvSpPr/>
          <p:nvPr/>
        </p:nvSpPr>
        <p:spPr>
          <a:xfrm>
            <a:off x="184320" y="2514600"/>
            <a:ext cx="3396960" cy="762120"/>
          </a:xfrm>
          <a:prstGeom prst="hexagon">
            <a:avLst>
              <a:gd name="adj" fmla="val 43334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273960" y="1614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3963600" y="16146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3963240" y="2666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w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305640" y="2666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1523880" y="3581280"/>
          <a:ext cx="4572000" cy="30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2971800" y="3920760"/>
            <a:ext cx="220968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n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er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3401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4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401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4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4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40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401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TPChart"/>
          <p:cNvGraphicFramePr/>
          <p:nvPr/>
        </p:nvGraphicFramePr>
        <p:xfrm>
          <a:off x="1523880" y="3657600"/>
          <a:ext cx="457200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 rot="16200000">
            <a:off x="5648400" y="3278160"/>
            <a:ext cx="5162400" cy="1663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772400" y="1905120"/>
            <a:ext cx="8319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How many different ways can you make change from a dollar?   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6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15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6"/>
          <p:cNvSpPr/>
          <p:nvPr/>
        </p:nvSpPr>
        <p:spPr>
          <a:xfrm>
            <a:off x="3838680" y="152388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8"/>
          <p:cNvSpPr/>
          <p:nvPr/>
        </p:nvSpPr>
        <p:spPr>
          <a:xfrm>
            <a:off x="306360" y="159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37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306720" y="2666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1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3964320" y="1596960"/>
            <a:ext cx="9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3963960" y="2666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1523880" y="3200040"/>
            <a:ext cx="114300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9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4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701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701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701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701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701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701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701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701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701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701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42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43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Fastest Responders (in seconds)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270080"/>
                <a:gridCol w="3174840"/>
                <a:gridCol w="1270080"/>
                <a:gridCol w="317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9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>
            <a:off x="1522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4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391520" y="60292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name of the black fla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is flown on a pirate ship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5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5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3"/>
          <p:cNvSpPr/>
          <p:nvPr/>
        </p:nvSpPr>
        <p:spPr>
          <a:xfrm>
            <a:off x="306720" y="15969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Black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05640" y="260496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Jolly Ro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963240" y="15969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  Skull &amp; Cross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3962160" y="260496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Sign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TPChart"/>
          <p:cNvGraphicFramePr/>
          <p:nvPr/>
        </p:nvGraphicFramePr>
        <p:xfrm>
          <a:off x="1523880" y="3505320"/>
          <a:ext cx="457200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895480" y="3768840"/>
            <a:ext cx="26668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ck Deat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ull &amp; Crossbo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lly Rog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 of the S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701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391520" y="5705640"/>
            <a:ext cx="1670040" cy="30456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Tony Soprano says he’s meeting someo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on the other side” he means…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7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17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306000" y="15969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304560" y="26668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Ol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962880" y="159696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itnes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3963600" y="2666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In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1523880" y="3632040"/>
          <a:ext cx="457200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32040"/>
                    <a:ext cx="4572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4952880" y="32763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itness Protection Progra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ld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60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7391520" y="539100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Miracle on Ice” USA Hockey Olympic victory on February 22, 1980 was against what nation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304560" y="15969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306360" y="26668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Czechoslova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3964680" y="1596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3964320" y="26668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0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4" name="TPChart"/>
          <p:cNvGraphicFramePr/>
          <p:nvPr/>
        </p:nvGraphicFramePr>
        <p:xfrm>
          <a:off x="1523880" y="3556080"/>
          <a:ext cx="457200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56080"/>
                    <a:ext cx="457200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2895480" y="3352320"/>
            <a:ext cx="259056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l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S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zechoslovaki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t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201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391520" y="507672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as William Shakespeare’s nicknam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1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05640" y="1596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B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305640" y="26668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Y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961800" y="159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3963600" y="26668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Be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TPChart"/>
          <p:cNvGraphicFramePr/>
          <p:nvPr/>
        </p:nvGraphicFramePr>
        <p:xfrm>
          <a:off x="1523880" y="3505320"/>
          <a:ext cx="45720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200400" y="3733920"/>
            <a:ext cx="24382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ar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g Wi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pp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e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7080" y="1666800"/>
          <a:ext cx="8915400" cy="4572000"/>
        </p:xfrm>
        <a:graphic>
          <a:graphicData uri="http://schemas.openxmlformats.org/drawingml/2006/table">
            <a:tbl>
              <a:tblPr/>
              <a:tblGrid>
                <a:gridCol w="1472040"/>
                <a:gridCol w="5072400"/>
                <a:gridCol w="216000"/>
                <a:gridCol w="2154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7391520" y="476244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family lived at 1313 Mockingbird Lan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4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04560" y="15969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Cunningh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306720" y="2666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Clea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963960" y="159696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dams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3963240" y="2666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Mun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TPChart"/>
          <p:cNvGraphicFramePr/>
          <p:nvPr/>
        </p:nvGraphicFramePr>
        <p:xfrm>
          <a:off x="1523880" y="358128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819520" y="3657240"/>
            <a:ext cx="259092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unningham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dams Famil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leave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un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9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201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201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2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201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201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201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201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2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201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20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8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9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391520" y="4438800"/>
            <a:ext cx="1670040" cy="30456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hich prison was the Man in the Iron Mask held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6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05280" y="159696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Bast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306720" y="2666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lcat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3961440" y="1596960"/>
            <a:ext cx="23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962880" y="26668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Nor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TPChart"/>
          <p:cNvGraphicFramePr/>
          <p:nvPr/>
        </p:nvGraphicFramePr>
        <p:xfrm>
          <a:off x="1523880" y="3505320"/>
          <a:ext cx="45720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2971800" y="3733920"/>
            <a:ext cx="26668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astil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wer of Lond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catraz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w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1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2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901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901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901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901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901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90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901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901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901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901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99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3:09:39Z</dcterms:created>
  <dc:creator>lfusselman</dc:creator>
  <dc:description/>
  <dc:language>en-US</dc:language>
  <cp:lastModifiedBy> </cp:lastModifiedBy>
  <dcterms:modified xsi:type="dcterms:W3CDTF">2009-02-02T18:45:59Z</dcterms:modified>
  <cp:revision>141</cp:revision>
  <dc:subject/>
  <dc:title>Slide 1</dc:title>
</cp:coreProperties>
</file>